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B45A-DA6B-4D9E-97E0-7660BAE3AD5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7E49-8980-4C54-90A3-D337ED0F0A3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A06C-9992-4E7A-93B2-E6DA7FA89B8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0930-3F04-43A2-A78A-27673E8525B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7059-466A-49A8-8948-66D70B8F016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2A56-BEA1-4A4A-8308-97B47A6B511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55AF-5500-44D7-BBA7-39321701F57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2118-9B41-4AA9-A435-3B4A3CF5CCF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8919-C8DA-4415-A626-ACFDB8A652A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C138-2E2B-4AED-8E5F-BBD9C7C4112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32A4-0989-4310-A938-EC4422CEC9A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ABC4-103D-4CF1-AD68-4833E134941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AF3F-D559-452E-B306-288CA40F907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F27C-36E7-4D44-9C11-872F2F34670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562F-BBCD-4B97-AB20-2E4F5F855AB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4A2E-B62F-44F4-B6F1-76200A639BF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B2D6-C5DA-4DB2-980A-6B16B9DDBA7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C6E1-DAB4-4C61-BCC3-61801C513F7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688D-950D-4653-8B85-6FD4460876A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BEF0-07F4-4E5B-B3C6-FA65854FCC1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A320E-EF3B-4418-B997-32A5C0306C4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89D4-0F29-4E1A-884D-0D2B8E59E5B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C7DA-98CB-4A3F-9515-0BDD1355870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5C84-B353-42A3-B5E0-259241D6292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04D8-06AB-4E79-8C56-143F428174F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1AEE-0CA2-4EA2-AA7E-BCE06C86899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FA2E-3519-4020-B71D-82756EB81FC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B0F7-C1A0-4906-8317-0EED81B537E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8411-ADBE-4B79-968A-4A7270A1E5D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193D-49DB-4FA6-848B-BD032B2F689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A53D-CFDF-4F9E-8542-C72887A3FCF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01E2-9E87-4826-B8DF-43E3D90A2FD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BA5F-9EE7-4E47-9102-C855C640C44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754E-5408-4E0B-82BC-95089564317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DA42-98B8-4275-BE35-E53B1E7C34D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0959-81D8-4E57-A1ED-E1E5D685BB6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E51E-366B-406E-9268-F86D029F62C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5CA8-CD5A-4D1D-BB28-806463E1B81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1CDD-995D-40B5-8B7C-F5BE1F72EFD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53E0-7336-4536-9792-C259C176E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AB3E-BB91-483B-9DB2-2618C2C5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34C3-8DBB-43B5-916E-6F795A7F7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ED4B-D738-420C-8EFB-3FB293CF1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7D57-6A9D-4015-986D-44F35AC8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3A89-749B-4EB7-8006-348A5709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9D9E-DE83-4DDA-A1DF-1BFAD3E7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CA37-7462-49D8-9966-FB18E04D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5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D4D8-CFDE-48CD-8412-92A09608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34EA-E6E6-497A-A25F-01680E7A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2F09-84B0-4591-8E7E-D8107AC7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D428-9626-497A-AD6D-2F1B391A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F6D2-0163-4EBB-8EFA-C66FD15381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" name="Freeform 5"/>
            <p:cNvSpPr/>
            <p:nvPr/>
          </p:nvSpPr>
          <p:spPr>
            <a:xfrm>
              <a:off x="0" y="0"/>
              <a:ext cx="6132600" cy="6173640"/>
            </a:xfrm>
            <a:prstGeom prst="pie">
              <a:avLst/>
            </a:pr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1365120" y="0"/>
              <a:ext cx="5388120" cy="5116680"/>
            </a:xfrm>
            <a:prstGeom prst="pie">
              <a:avLst/>
            </a:pr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3471840" y="0"/>
              <a:ext cx="4538520" cy="4057560"/>
            </a:xfrm>
            <a:prstGeom prst="pie">
              <a:avLst/>
            </a:pr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4849920" y="0"/>
              <a:ext cx="3628800" cy="3367080"/>
            </a:xfrm>
            <a:prstGeom prst="pie">
              <a:avLst/>
            </a:pr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-248400" y="6137280"/>
            <a:ext cx="146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19C6-4CCC-41DD-A0B4-63B7283712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easuring Mo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amu was one twelfth the mass of a carbon 12 atom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ce the mole is the number of atoms in 12 grams of carbon-12,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decimal number on the periodic table 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mass of the average atom in am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mass of 1 mole of those atoms in gram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Gram Atomic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mass of 1 mole of an element in gram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2.01 grams of carbon has the same number of atoms as 1.01 grams of hydrogen and 55.85 grams of iron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can write this a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.01 g C = 1 mo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can count things by weighing them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much would 2.34 moles of carbon weigh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many moles of magnesium in 4.61 g of Mg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many atoms of lithium in 1.00 g of Li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much would 3.45 x 10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2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toms of U weigh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at about compounds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1 mole of 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 molecules there are two moles of H atoms and 1 mole of O ato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find the mass of one mole of a compound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the moles of the elements they hav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d out how much they would weig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d them u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at about compounds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the mass of one mole of  C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mole of C = 12.01 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 mole of H x 1.01 g = 4.04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mole C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12.01 + 4.04 = 16.05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olar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mass of 1 mo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the molar mass of Fe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 moles of Fe x 55.85 g = 111.70 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moles of O x 16.00 g  = 48.00 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GFM = 111.70 g + 48.00 g = 159.70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alculate the molar mass of the following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N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hapter 8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emical Quantiti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WordArt 4"/>
          <p:cNvSpPr txBox="1"/>
          <p:nvPr/>
        </p:nvSpPr>
        <p:spPr>
          <a:xfrm>
            <a:off x="1295280" y="3809880"/>
            <a:ext cx="6858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fafd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Our Friend the Mole"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Using Molar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ding moles of compoun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unting pieces by weigh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olar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number of grams in 1 mole of atoms, formula units, or molecul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can make conversion factors from thes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change grams of a compound to moles of a compoun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 moles to gra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5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or examp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many moles is 5.69 g of NaOH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4"/>
              <p:cNvSpPr txBox="1"/>
              <p:nvPr/>
            </p:nvSpPr>
            <p:spPr>
              <a:xfrm>
                <a:off x="966960" y="2448000"/>
                <a:ext cx="6107040" cy="15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rPr>
                        <m:lit/>
                        <m:nor/>
                      </m:rPr>
                      <m:t xml:space="preserve"> 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       1  mole  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  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  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8" name="Rectangle 5"/>
          <p:cNvSpPr/>
          <p:nvPr/>
        </p:nvSpPr>
        <p:spPr>
          <a:xfrm>
            <a:off x="609480" y="3505320"/>
            <a:ext cx="7925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57b4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ed to change grams to mo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57b4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 NaO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57b4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mole Na = 22.99g    1 mol O = 16.00 g 1 mole of H = 1.01 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57b4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mole NaOH = 40.00 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or examp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many moles is 5.69 g of NaOH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4"/>
              <p:cNvSpPr txBox="1"/>
              <p:nvPr/>
            </p:nvSpPr>
            <p:spPr>
              <a:xfrm>
                <a:off x="905040" y="2381400"/>
                <a:ext cx="8188200" cy="15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rPr>
                        <m:lit/>
                        <m:nor/>
                      </m:rPr>
                      <m:t xml:space="preserve"> 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       1  mole  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  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  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 = 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2 mol NaO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Rectangle 5"/>
          <p:cNvSpPr/>
          <p:nvPr/>
        </p:nvSpPr>
        <p:spPr>
          <a:xfrm>
            <a:off x="609480" y="3505320"/>
            <a:ext cx="7925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57b4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ed to change grams to mo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57b4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 NaO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57b4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mole Na = 22.99g    1 mol O = 16.00 g 1 mole of H = 1.01 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57b4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mole NaOH = 40.00 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Gases and the Mo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Gas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y of the chemicals we deal with are gas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y are difficult to weigh, so we’ll measure volum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ed to know how many moles of gas we hav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wo things affect the volume of a g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erature and press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are at the same temp. and pressur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4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9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andard Temperature and Pressur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794960"/>
            <a:ext cx="81532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268560" indent="-2685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Avogadro's Hypothesi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- at the same temperature and pressure equal volumes of gas have the same number of particl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8560" indent="-2685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0ºC and 1 atmosphere pressur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8560" indent="-2685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bbreviated at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8560" indent="-2685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73 K and 101.3 kP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8560" indent="-2685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Pa is kiloPasc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t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andard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T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mperature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P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sur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794960"/>
            <a:ext cx="81532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bbreviated ST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 STP 1 mole of gas occupies 22.4 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lled the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molar volum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Used for conversion facto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Moles to Liter and L to mo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2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7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volume of 4.59 mole of CO</a:t>
            </a:r>
            <a:r>
              <a:rPr b="1" lang="en-US" sz="4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gas at STP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ensity of a ga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265680" indent="-2656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 = m /V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5680" indent="-2656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 a gas the units will be  g / 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5680" indent="-2656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can determine the density of any gas at STP if we know its formula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5680" indent="-2656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find the density we need the mass and the volum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5680" indent="-2656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f you assume you have 1 mole than the mass is the molar mass (PT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5680" indent="-2656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 STP the volume is 22.4 L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0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ow you measure how much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 can measure mass,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 volume,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 you can count piec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measure mass in gram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measure volume in liter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count pieces in </a:t>
            </a: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MOLES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d the density of CO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 STP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Quizd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d the density of C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t STP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e other wa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iven the density, we can find the molar mass of the ga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gain, pretend you have a mole at STP, so V = 22.4 L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 = D x V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 is the mass of 1 mole, since you have 22.4 L of the stuff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the molar mass of a gas with a density of 1.964 g/L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ll the things we can chang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31"/>
          <p:cNvGrpSpPr/>
          <p:nvPr/>
        </p:nvGrpSpPr>
        <p:grpSpPr>
          <a:xfrm>
            <a:off x="463680" y="1225440"/>
            <a:ext cx="4052880" cy="1435320"/>
            <a:chOff x="463680" y="1225440"/>
            <a:chExt cx="4052880" cy="1435320"/>
          </a:xfrm>
        </p:grpSpPr>
        <p:sp>
          <p:nvSpPr>
            <p:cNvPr id="124" name="Arc 2"/>
            <p:cNvSpPr/>
            <p:nvPr/>
          </p:nvSpPr>
          <p:spPr>
            <a:xfrm>
              <a:off x="2629080" y="1449360"/>
              <a:ext cx="1887480" cy="677880"/>
            </a:xfrm>
            <a:prstGeom prst="pie">
              <a:avLst/>
            </a:prstGeom>
            <a:noFill/>
            <a:ln cap="rnd"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Arc 10"/>
            <p:cNvSpPr/>
            <p:nvPr/>
          </p:nvSpPr>
          <p:spPr>
            <a:xfrm>
              <a:off x="2576520" y="1752480"/>
              <a:ext cx="1484280" cy="762120"/>
            </a:xfrm>
            <a:prstGeom prst="pie">
              <a:avLst/>
            </a:prstGeom>
            <a:noFill/>
            <a:ln cap="rnd"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AutoShape 11"/>
            <p:cNvSpPr/>
            <p:nvPr/>
          </p:nvSpPr>
          <p:spPr>
            <a:xfrm>
              <a:off x="463680" y="1225440"/>
              <a:ext cx="2349360" cy="1435320"/>
            </a:xfrm>
            <a:prstGeom prst="hexagon">
              <a:avLst>
                <a:gd name="adj" fmla="val 40912"/>
                <a:gd name="vf" fmla="val 115470"/>
              </a:avLst>
            </a:prstGeom>
            <a:solidFill>
              <a:srgbClr val="cecece"/>
            </a:solidFill>
            <a:ln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2"/>
            <p:cNvSpPr/>
            <p:nvPr/>
          </p:nvSpPr>
          <p:spPr>
            <a:xfrm>
              <a:off x="671040" y="1630440"/>
              <a:ext cx="201672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65fb"/>
                  </a:solidFill>
                  <a:latin typeface="Arial"/>
                </a:rPr>
                <a:t>Volum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Group 37"/>
          <p:cNvGrpSpPr/>
          <p:nvPr/>
        </p:nvGrpSpPr>
        <p:grpSpPr>
          <a:xfrm>
            <a:off x="6172200" y="4730760"/>
            <a:ext cx="2660760" cy="1587600"/>
            <a:chOff x="6172200" y="4730760"/>
            <a:chExt cx="2660760" cy="1587600"/>
          </a:xfrm>
        </p:grpSpPr>
        <p:sp>
          <p:nvSpPr>
            <p:cNvPr id="129" name="Arc 15"/>
            <p:cNvSpPr/>
            <p:nvPr/>
          </p:nvSpPr>
          <p:spPr>
            <a:xfrm>
              <a:off x="6172200" y="5334120"/>
              <a:ext cx="1103400" cy="533160"/>
            </a:xfrm>
            <a:prstGeom prst="pie">
              <a:avLst/>
            </a:prstGeom>
            <a:noFill/>
            <a:ln cap="rnd"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Arc 21"/>
            <p:cNvSpPr/>
            <p:nvPr/>
          </p:nvSpPr>
          <p:spPr>
            <a:xfrm>
              <a:off x="6705720" y="4802040"/>
              <a:ext cx="687240" cy="533520"/>
            </a:xfrm>
            <a:prstGeom prst="pie">
              <a:avLst/>
            </a:prstGeom>
            <a:noFill/>
            <a:ln cap="rnd"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AutoShape 23"/>
            <p:cNvSpPr/>
            <p:nvPr/>
          </p:nvSpPr>
          <p:spPr>
            <a:xfrm>
              <a:off x="6940440" y="4730760"/>
              <a:ext cx="1892520" cy="1587600"/>
            </a:xfrm>
            <a:prstGeom prst="diamond">
              <a:avLst/>
            </a:prstGeom>
            <a:solidFill>
              <a:srgbClr val="d49fff"/>
            </a:solidFill>
            <a:ln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24"/>
            <p:cNvSpPr/>
            <p:nvPr/>
          </p:nvSpPr>
          <p:spPr>
            <a:xfrm>
              <a:off x="7376040" y="5211720"/>
              <a:ext cx="12276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65fb"/>
                  </a:solidFill>
                  <a:latin typeface="Arial"/>
                </a:rPr>
                <a:t>Ion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" name="Group 36"/>
          <p:cNvGrpSpPr/>
          <p:nvPr/>
        </p:nvGrpSpPr>
        <p:grpSpPr>
          <a:xfrm>
            <a:off x="615960" y="4992840"/>
            <a:ext cx="2355840" cy="1172880"/>
            <a:chOff x="615960" y="4992840"/>
            <a:chExt cx="2355840" cy="1172880"/>
          </a:xfrm>
        </p:grpSpPr>
        <p:sp>
          <p:nvSpPr>
            <p:cNvPr id="134" name="Arc 13"/>
            <p:cNvSpPr/>
            <p:nvPr/>
          </p:nvSpPr>
          <p:spPr>
            <a:xfrm>
              <a:off x="2173320" y="4992840"/>
              <a:ext cx="533520" cy="609480"/>
            </a:xfrm>
            <a:prstGeom prst="pie">
              <a:avLst/>
            </a:prstGeom>
            <a:noFill/>
            <a:ln cap="rnd"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Arc 14"/>
            <p:cNvSpPr/>
            <p:nvPr/>
          </p:nvSpPr>
          <p:spPr>
            <a:xfrm>
              <a:off x="2362320" y="5486400"/>
              <a:ext cx="609480" cy="533520"/>
            </a:xfrm>
            <a:prstGeom prst="pie">
              <a:avLst/>
            </a:prstGeom>
            <a:noFill/>
            <a:ln cap="rnd"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AutoShape 20"/>
            <p:cNvSpPr/>
            <p:nvPr/>
          </p:nvSpPr>
          <p:spPr>
            <a:xfrm>
              <a:off x="615960" y="5416560"/>
              <a:ext cx="1892160" cy="749160"/>
            </a:xfrm>
            <a:prstGeom prst="roundRect">
              <a:avLst>
                <a:gd name="adj" fmla="val 43120"/>
              </a:avLst>
            </a:prstGeom>
            <a:solidFill>
              <a:srgbClr val="a2ffa3"/>
            </a:solidFill>
            <a:ln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22"/>
            <p:cNvSpPr/>
            <p:nvPr/>
          </p:nvSpPr>
          <p:spPr>
            <a:xfrm>
              <a:off x="671400" y="5440320"/>
              <a:ext cx="1762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65fb"/>
                  </a:solidFill>
                  <a:latin typeface="Arial"/>
                </a:rPr>
                <a:t>Atom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8" name="Group 38"/>
          <p:cNvGrpSpPr/>
          <p:nvPr/>
        </p:nvGrpSpPr>
        <p:grpSpPr>
          <a:xfrm>
            <a:off x="1986840" y="3149640"/>
            <a:ext cx="5016600" cy="2764080"/>
            <a:chOff x="1986840" y="3149640"/>
            <a:chExt cx="5016600" cy="2764080"/>
          </a:xfrm>
        </p:grpSpPr>
        <p:sp>
          <p:nvSpPr>
            <p:cNvPr id="139" name="Oval 5"/>
            <p:cNvSpPr/>
            <p:nvPr/>
          </p:nvSpPr>
          <p:spPr>
            <a:xfrm>
              <a:off x="4292640" y="3149640"/>
              <a:ext cx="635040" cy="162540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AutoShape 16"/>
            <p:cNvSpPr/>
            <p:nvPr/>
          </p:nvSpPr>
          <p:spPr>
            <a:xfrm flipH="1" flipV="1" rot="10800000">
              <a:off x="1986480" y="4577400"/>
              <a:ext cx="5016600" cy="1282680"/>
            </a:xfrm>
            <a:prstGeom prst="pie">
              <a:avLst/>
            </a:prstGeom>
            <a:solidFill>
              <a:srgbClr val="fda4b5"/>
            </a:solidFill>
            <a:ln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17"/>
            <p:cNvSpPr/>
            <p:nvPr/>
          </p:nvSpPr>
          <p:spPr>
            <a:xfrm>
              <a:off x="2653200" y="4602240"/>
              <a:ext cx="3821400" cy="13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65fb"/>
                  </a:solidFill>
                  <a:latin typeface="Arial"/>
                </a:rPr>
                <a:t>Representativ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65fb"/>
                  </a:solidFill>
                  <a:latin typeface="Arial"/>
                </a:rPr>
                <a:t>     </a:t>
              </a:r>
              <a:r>
                <a:rPr b="1" lang="en-US" sz="4000" spc="-1" strike="noStrike">
                  <a:solidFill>
                    <a:srgbClr val="3365fb"/>
                  </a:solidFill>
                  <a:latin typeface="Arial"/>
                </a:rPr>
                <a:t>Particle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2" name="Group 32"/>
          <p:cNvGrpSpPr/>
          <p:nvPr/>
        </p:nvGrpSpPr>
        <p:grpSpPr>
          <a:xfrm>
            <a:off x="4762440" y="920880"/>
            <a:ext cx="3613320" cy="1587240"/>
            <a:chOff x="4762440" y="920880"/>
            <a:chExt cx="3613320" cy="1587240"/>
          </a:xfrm>
        </p:grpSpPr>
        <p:sp>
          <p:nvSpPr>
            <p:cNvPr id="143" name="Arc 3"/>
            <p:cNvSpPr/>
            <p:nvPr/>
          </p:nvSpPr>
          <p:spPr>
            <a:xfrm>
              <a:off x="4932360" y="1752480"/>
              <a:ext cx="1657440" cy="685800"/>
            </a:xfrm>
            <a:prstGeom prst="pie">
              <a:avLst/>
            </a:prstGeom>
            <a:noFill/>
            <a:ln cap="rnd"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Arc 4"/>
            <p:cNvSpPr/>
            <p:nvPr/>
          </p:nvSpPr>
          <p:spPr>
            <a:xfrm>
              <a:off x="4762440" y="1601640"/>
              <a:ext cx="1594080" cy="677880"/>
            </a:xfrm>
            <a:prstGeom prst="pie">
              <a:avLst/>
            </a:prstGeom>
            <a:noFill/>
            <a:ln cap="rnd"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8"/>
            <p:cNvSpPr/>
            <p:nvPr/>
          </p:nvSpPr>
          <p:spPr>
            <a:xfrm>
              <a:off x="6254640" y="920880"/>
              <a:ext cx="2121120" cy="15872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Rectangle 9"/>
            <p:cNvSpPr/>
            <p:nvPr/>
          </p:nvSpPr>
          <p:spPr>
            <a:xfrm>
              <a:off x="6613920" y="1325520"/>
              <a:ext cx="14529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65fb"/>
                  </a:solidFill>
                  <a:latin typeface="Arial"/>
                </a:rPr>
                <a:t>Mas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Rectangle 19"/>
          <p:cNvSpPr/>
          <p:nvPr/>
        </p:nvSpPr>
        <p:spPr>
          <a:xfrm>
            <a:off x="5334120" y="1752480"/>
            <a:ext cx="1752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3435480" y="1454040"/>
            <a:ext cx="2349360" cy="1816200"/>
          </a:xfrm>
          <a:prstGeom prst="triangle">
            <a:avLst>
              <a:gd name="adj" fmla="val 49995"/>
            </a:avLst>
          </a:prstGeom>
          <a:solidFill>
            <a:srgbClr val="fafd00"/>
          </a:solidFill>
          <a:ln w="1260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794760" y="2468520"/>
            <a:ext cx="16221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5fb"/>
                </a:solidFill>
                <a:latin typeface="Arial"/>
              </a:rPr>
              <a:t>Mo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18"/>
          <p:cNvSpPr/>
          <p:nvPr/>
        </p:nvSpPr>
        <p:spPr>
          <a:xfrm>
            <a:off x="3352680" y="3581280"/>
            <a:ext cx="28195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6.02 x 10</a:t>
            </a:r>
            <a:r>
              <a:rPr b="1" lang="en-US" sz="4800" spc="-1" strike="noStrike" baseline="30000">
                <a:solidFill>
                  <a:srgbClr val="fafd00"/>
                </a:solidFill>
                <a:latin typeface="Arial"/>
              </a:rPr>
              <a:t>2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25"/>
          <p:cNvSpPr/>
          <p:nvPr/>
        </p:nvSpPr>
        <p:spPr>
          <a:xfrm>
            <a:off x="2743200" y="1676520"/>
            <a:ext cx="1752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22.4 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26"/>
          <p:cNvSpPr/>
          <p:nvPr/>
        </p:nvSpPr>
        <p:spPr>
          <a:xfrm>
            <a:off x="3657600" y="5943600"/>
            <a:ext cx="19051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Count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3" name="AutoShape 27"/>
          <p:cNvCxnSpPr>
            <a:stCxn id="152" idx="1"/>
            <a:endCxn id="137" idx="3"/>
          </p:cNvCxnSpPr>
          <p:nvPr/>
        </p:nvCxnSpPr>
        <p:spPr>
          <a:xfrm rot="10800000">
            <a:off x="2434680" y="5790600"/>
            <a:ext cx="1222920" cy="504000"/>
          </a:xfrm>
          <a:prstGeom prst="curvedConnector5">
            <a:avLst>
              <a:gd name="adj1" fmla="val 50000"/>
              <a:gd name="adj2" fmla="val 49964"/>
              <a:gd name="adj3" fmla="val 50000"/>
            </a:avLst>
          </a:prstGeom>
          <a:ln w="76320">
            <a:solidFill>
              <a:srgbClr val="fafd00"/>
            </a:solidFill>
            <a:miter/>
            <a:tailEnd len="med" type="triangle" w="med"/>
          </a:ln>
        </p:spPr>
      </p:cxnSp>
      <p:cxnSp>
        <p:nvCxnSpPr>
          <p:cNvPr id="154" name="AutoShape 28"/>
          <p:cNvCxnSpPr>
            <a:stCxn id="152" idx="3"/>
            <a:endCxn id="131" idx="1"/>
          </p:cNvCxnSpPr>
          <p:nvPr/>
        </p:nvCxnSpPr>
        <p:spPr>
          <a:xfrm flipV="1">
            <a:off x="5562360" y="5523840"/>
            <a:ext cx="1378440" cy="7707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fafd00"/>
            </a:solidFill>
            <a:miter/>
            <a:tailEnd len="med" type="triangle" w="med"/>
          </a:ln>
        </p:spPr>
      </p:cxn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ercent Composi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 all perc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    x 100 %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who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d the mass of each component,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vide by the total mas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809640" y="2378160"/>
            <a:ext cx="1600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lculate the percent composition of a compound that is 29.0 g of Ag with 4.30 g of 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Getting it from the formul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f we know the formula, assume you have 1 mol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n you know the pieces and the whol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lculate the percent composition of C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the percent composition of Aluminum carbonat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o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ed as the number of carbon atoms in exactly 12 grams of carbon-12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mole is 6.02 x 10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2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particl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eat it like a very large doz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.02 x 10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2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is called Avogadro's number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ercent to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ltiply % by the total mass to find the mass of that compone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much aluminum in 450 g of aluminum carbonate?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mpirical Formul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85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rom percentage to formul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e Empirical Formul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lowest whole number ratio of elements in a compoun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molecular formula the actual ratio of elements in a compoun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two can be the same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empirical formul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molecular formul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molecular formul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 bo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52" dur="2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inding Empirical Formula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ust find the lowest whole number rati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is not just the ratio of atoms, it is also the ratio of moles of atom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59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alculating Empirical Formula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ans we can get ratio from percent composition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sume you have a 100 g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percentages become gram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urn grams to moles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d lowest whole number ratio by dividing everything by the smallest mol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77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7" dur="77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9" dur="77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1" dur="77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lculate the empirical formula of a compound composed of 38.67 % C, 16.22 % H, and 45.11 %N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sume 100 g 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8.67 g C  x   1mol C     = 3.220 mole C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2.01 gC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6.22 g H x   1mol H     = 16.1 mole H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01 g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5.11 g N  x   1mol N   = 3.220 mole 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4.01 g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4"/>
          <p:cNvSpPr/>
          <p:nvPr/>
        </p:nvSpPr>
        <p:spPr>
          <a:xfrm>
            <a:off x="3276720" y="3733920"/>
            <a:ext cx="1752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5"/>
          <p:cNvSpPr/>
          <p:nvPr/>
        </p:nvSpPr>
        <p:spPr>
          <a:xfrm>
            <a:off x="3352680" y="4800600"/>
            <a:ext cx="17528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6"/>
          <p:cNvSpPr/>
          <p:nvPr/>
        </p:nvSpPr>
        <p:spPr>
          <a:xfrm>
            <a:off x="3352680" y="5867280"/>
            <a:ext cx="17528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8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3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8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3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8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280080" indent="-280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atio is 3.220 mol C  = 1 mol C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3.220 molN      1 mol 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atio is 16.1  mol H  =  5 mol H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3.220 molN      1 mol 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ffeine is 49.48% C, 5.15% H, 28.87% N and 16.49% O. What is its empirical formula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4"/>
          <p:cNvSpPr/>
          <p:nvPr/>
        </p:nvSpPr>
        <p:spPr>
          <a:xfrm>
            <a:off x="3024360" y="1828800"/>
            <a:ext cx="2538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5"/>
          <p:cNvSpPr/>
          <p:nvPr/>
        </p:nvSpPr>
        <p:spPr>
          <a:xfrm flipV="1">
            <a:off x="6072120" y="1847520"/>
            <a:ext cx="1548000" cy="4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6"/>
          <p:cNvSpPr/>
          <p:nvPr/>
        </p:nvSpPr>
        <p:spPr>
          <a:xfrm>
            <a:off x="3100320" y="2895480"/>
            <a:ext cx="2538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7"/>
          <p:cNvSpPr/>
          <p:nvPr/>
        </p:nvSpPr>
        <p:spPr>
          <a:xfrm flipV="1">
            <a:off x="6148440" y="2914200"/>
            <a:ext cx="1547640" cy="4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5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6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7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2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mpirical to molecula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ffeine is 49.48% C, 5.15% H, 28.87% N and 16.49% O. What is its empirical formula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ce the empirical formula is the lowest ratio the actual molecule would weigh the same or mor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y a whole number multipl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vide the actual molar mass by the the mass of one mole of the empirical formula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 will get a whole number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ltiply the empirical formula by thi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99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compound has an empirical formula of ClC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nd a molar mass of 98.96 g/mol. What is its molecular formula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compound has an empirical formula of C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 and a molar mass of 180.0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/mol. What is its molecular formula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3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0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ercent to molecula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277200" indent="-2772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ke the percent x the molar ma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4920" indent="-221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s gives you mass in one mole of the compoun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nge this to mo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4920" indent="-221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 will get whole numb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4920" indent="-221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se are the subscrip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ffeine is 49.48% C, 5.15% H, 28.87% N and 16.49% O. It has a molar mass of 194 g. What is its molecular formula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9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6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3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0" dur="1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7" dur="10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4" dur="10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epresentative partic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mallest pieces of a substanc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 an element it is an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ato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ess it is diatomi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 a molecular compound it is a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molecul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 an ionic compound it is a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formula uni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499"/>
              </a:spcBef>
              <a:spcAft>
                <a:spcPts val="499"/>
              </a:spcAft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buprofen is 75.69 % C, 8.80 % H, 15.51 % O, and has a molar mass of about 207 g/mol. What is its molecular formula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nversion factor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d to change unit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ree ques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unit do you want to get rid of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re does it go to cancel out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can you change it into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alculation ques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many molecules of CO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re the in 4.56 moles of CO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alculation ques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many moles of water is 5.87 x 10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2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molecule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alculation ques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many atoms of  carbon are there in 1.23 moles of C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12T16:36:52Z</dcterms:created>
  <dc:creator>Jill Luckey</dc:creator>
  <dc:description/>
  <dc:language>en-US</dc:language>
  <cp:lastModifiedBy>jluckey</cp:lastModifiedBy>
  <dcterms:modified xsi:type="dcterms:W3CDTF">2011-03-30T14:38:54Z</dcterms:modified>
  <cp:revision>68</cp:revision>
  <dc:subject/>
  <dc:title>Chapter 6</dc:title>
</cp:coreProperties>
</file>